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CEBAC-28AF-4EAC-A665-34AAF2A7421C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70420-3DC4-42FB-A090-30247D1E97A2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E642A-5738-4437-9D83-9C6562BCADA8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14DCF1-3EC7-4356-A2F2-144B296B257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D5505A-E757-4CE7-AB7F-EE2233CD3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FBC5C4-5942-42B4-829D-086DFC39B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0F462A-DF87-4DD6-8CB6-E2B186A060E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25083D-F791-4796-BA74-F7ABD09FB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834E97-0F7E-4838-98F4-81394AA41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183D5C-CCC3-4BBA-87A1-078AB974A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2389C5-0531-4BA6-A919-CBC7BEFE7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CBBB16-48A3-4C1D-8279-C39C66E06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A83268-1716-4731-BCC4-E11C3EB33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5A3809-EBE7-42B2-BCD0-4122FDEF0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E6272B-F17A-4A01-AEBD-CA775C397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F5E14-67D8-475E-ABE8-8202CE3DA70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64360" y="6597720"/>
            <a:ext cx="1620720" cy="260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206064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第十一章 </a:t>
            </a: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休息与活动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71280" y="1356840"/>
            <a:ext cx="878688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睡眠的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原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睡眠的生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睡眠的发生机制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睡眠的生理特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睡眠的时相：慢波睡眠和快波睡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睡眠周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睡眠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睡眠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影响休息与睡眠的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生理性因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病理因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心理因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因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药物因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369720" y="942480"/>
            <a:ext cx="847440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常见的睡眠障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690840" indent="-2656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失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690840" indent="-2656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发作性睡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690840" indent="-2656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睡眠过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690840" indent="-2656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睡眠呼吸暂停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690840" indent="-2656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睡眠剥夺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690840" indent="-2656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梦游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690840" indent="-2656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梦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690840" indent="-2656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睡惊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690840" indent="-2656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遗尿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690840" indent="-265680">
              <a:lnSpc>
                <a:spcPct val="2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睡眠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住院患者睡眠的特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睡眠节律改变：表现为昼夜性节律去同步化，又称节律移位，是指患者正常的昼夜性节律遭到破坏，睡眠与昼夜性节律不协调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睡眠质量改变：各睡眠时相持续的时间、睡眠深度及睡眠效果三方面协调一致的综合体现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2" marL="9144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6" name="标题 1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睡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促进睡眠的护理措施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满足患者身体舒适的需要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减轻或解除心理压力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创造良好的睡眠环境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合理使用药物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建立良好的睡眠习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做好晚间护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8" name="Rectangle 2"/>
          <p:cNvSpPr/>
          <p:nvPr/>
        </p:nvSpPr>
        <p:spPr>
          <a:xfrm>
            <a:off x="303120" y="115920"/>
            <a:ext cx="858204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标题 1"/>
          <p:cNvSpPr/>
          <p:nvPr/>
        </p:nvSpPr>
        <p:spPr>
          <a:xfrm>
            <a:off x="357120" y="312840"/>
            <a:ext cx="8580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睡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活动的意义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活动受限的原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活动受限对机体的影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协助患者活动的护理措施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1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活动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活动受限的原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疼痛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损伤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运动系统结构改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营养状态改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精神心理因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医疗护理措施的实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42920" y="213840"/>
            <a:ext cx="875016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活动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323640" y="1197000"/>
            <a:ext cx="847404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活动受限对机体的影响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对皮肤的影响损伤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对骨骼肌肉系统的影响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肌肉萎缩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骨质疏松、关节僵硬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挛缩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对心血管系统的影响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直立性低血压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静脉血栓形成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活动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356760" y="128592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对呼吸系统的影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对消化系统的影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食欲下降、厌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便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对泌尿系统的影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排尿困难、尿潴留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泌尿道结石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泌尿道感染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对心理－社会方面的影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7" name="标题 1"/>
          <p:cNvSpPr/>
          <p:nvPr/>
        </p:nvSpPr>
        <p:spPr>
          <a:xfrm>
            <a:off x="223920" y="142920"/>
            <a:ext cx="8580240" cy="7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Rectangle 2"/>
          <p:cNvSpPr/>
          <p:nvPr/>
        </p:nvSpPr>
        <p:spPr>
          <a:xfrm>
            <a:off x="476280" y="333360"/>
            <a:ext cx="85802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活动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356760" y="128592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协助患者活动的护理措施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活动的评估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协助患者活动的措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0" name="标题 1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Rectangle 2"/>
          <p:cNvSpPr/>
          <p:nvPr/>
        </p:nvSpPr>
        <p:spPr>
          <a:xfrm>
            <a:off x="476280" y="333360"/>
            <a:ext cx="85802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活动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课程内容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一节 休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二节 睡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三节 活动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患者活动的评估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重点：患者对日常生活活动、生活自理能力、活动耐力、影响患者活动的主要因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方法：问诊、体格检查和辅助检查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的内容：患者的一般资料、心肺功能状态、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骨骼肌肉状态、关节功能状态、机体活动能力、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前的患病情况、社会心理状况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buClr>
                <a:srgbClr val="046ca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活动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协助患者活动的措施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协助患者变换体位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关节活动范围练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肌肉练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活动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关节活动度练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857160" indent="-4572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的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857160" indent="-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维持关节活动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预防关节僵硬、粘连和挛缩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促进血液循环，有利于关节营养的供给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恢复关节功能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维持肌张力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857160" indent="-4572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方法：详见教材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活动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关节活动度练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全面评估患者情况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运动过程注意观察不良反应及耐受性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对急性关节炎、骨折、肌腱断裂、关节脱位的患者进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RO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练习时，应在临床医生和康复医生的指导下完成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运动后及时记录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活动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肌肉练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857160" indent="-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等长练习：可增加肌肉张力而不改变肌肉长度的练习称为等长练习，因不伴有明显的关节运动，又称静力练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857160" indent="-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等张练习：指对抗一定的负荷作关节的活动锻炼，同时也锻炼肌肉收缩。因伴有大幅度关节运动，又称动力练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活动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肌肉练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以患者的病情及运动需要为依据，制订适合患者的运动计划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肌肉锻炼前后应作充分地准备及放松运动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掌握运动的量与频率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肌肉等长收缩引起的升压反应及增加心血管负荷的作用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过程中如果出现不适应该停止锻炼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Rectangle 2"/>
          <p:cNvSpPr/>
          <p:nvPr/>
        </p:nvSpPr>
        <p:spPr>
          <a:xfrm>
            <a:off x="384120" y="333360"/>
            <a:ext cx="8580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活动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323640" y="134100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睡眠的护理措施哪项有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创造良好的睡眠环境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改变患者的睡眠习惯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合理安排护理措施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合理使用药物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加强心理护理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6" name="Rectangle 2"/>
          <p:cNvSpPr/>
          <p:nvPr/>
        </p:nvSpPr>
        <p:spPr>
          <a:xfrm>
            <a:off x="324000" y="24768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Rectangle 4"/>
          <p:cNvSpPr/>
          <p:nvPr/>
        </p:nvSpPr>
        <p:spPr>
          <a:xfrm>
            <a:off x="324000" y="237960"/>
            <a:ext cx="858024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356760" y="1356840"/>
            <a:ext cx="853596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．大量分泌生长激素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促进体力恢复，发生在睡眠的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NREM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Ⅰ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期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Ⅱ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期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Ⅲ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期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Ⅳ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期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 REM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期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9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下列关于睡眠时相的描述，正确的是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成人进入睡眠后，首先是快波睡眠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越接近睡眠的后期，慢波睡眠的持续时间越长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两种睡眠时相均可直接转为觉醒状态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在觉醒状态下可以进入快波睡眠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慢波睡眠又称异相睡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1" name="Rectangle 2"/>
          <p:cNvSpPr/>
          <p:nvPr/>
        </p:nvSpPr>
        <p:spPr>
          <a:xfrm>
            <a:off x="353880" y="236520"/>
            <a:ext cx="8580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Rectangle 2"/>
          <p:cNvSpPr/>
          <p:nvPr/>
        </p:nvSpPr>
        <p:spPr>
          <a:xfrm>
            <a:off x="476280" y="236520"/>
            <a:ext cx="858024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450360" y="1337760"/>
            <a:ext cx="82803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下列关于发作性睡眠的描述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正确的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发作性睡眠属于慢波睡眠障碍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安静的环境不易发作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发作时患者由清醒状态直接进入慢波睡眠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发作性睡眠与正常睡眠不同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猝倒症是最危险的并发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9760" y="1413000"/>
            <a:ext cx="82087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识记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复述休息、睡眠、关节活动练习、等长练习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等张练习等概念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列举常见睡眠障碍的类型和主要表现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列出活动受限的原因和其对机体的影响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理解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．比较睡眠两个时相的不同特点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．举例说明影响睡眠的因素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．简述促进休息和睡眠的护理措施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．简述患者活动评估的内容和协助活动的要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．陈述关节活动范围和肌肉练习的注意事项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68000" y="1413000"/>
            <a:ext cx="83516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运用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根据患者的病情和需要，能正确为患者提供促进休息和睡眠的护理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根据患者的病情和需要，按规程协助患者进行关节活动范围和肌肉练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一节 休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休息的概念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休息的意义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休息的形式与条件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协助患者休息的措施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休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休息的形式与条件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身体方面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心理方面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方面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睡眠方面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协助患者休息的措施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增加身体的舒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促进心理的放松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保证环境的和谐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保证足够的睡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6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休息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睡眠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睡眠的原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影响休息与睡眠的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常见的睡眠障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住院患者睡眠的特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促进睡眠的护理措施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2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暴海燕</cp:lastModifiedBy>
  <dcterms:modified xsi:type="dcterms:W3CDTF">2016-01-25T06:55:20Z</dcterms:modified>
  <cp:revision>141</cp:revision>
  <dc:subject/>
  <dc:title>内科护理学</dc:title>
</cp:coreProperties>
</file>